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81453"/>
        <c:axId val="86803716"/>
      </c:barChart>
      <c:catAx>
        <c:axId val="38081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3716"/>
        <c:crosses val="autoZero"/>
        <c:auto val="1"/>
        <c:lblAlgn val="ctr"/>
        <c:lblOffset val="100"/>
        <c:noMultiLvlLbl val="0"/>
      </c:catAx>
      <c:valAx>
        <c:axId val="86803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81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803-777F-48F4-B6C5-5447F489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7ED-B67A-49F7-8EA2-CB046C72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F3D-CE94-41F3-B38E-75B8480D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8E1-7EC1-471E-9689-48D41599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54F-CCBD-4ACD-BED0-358CD99E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827-3D7C-4EB3-BEAB-8666F0A8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ABC-5BEE-473A-A89B-AFF55229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95E-969C-4F6F-94A9-C667CE66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8E3-7834-4685-9232-8D456DF9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68C-2238-49F9-A330-2C38F377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942-18B9-4599-BCC1-781D034F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487-635D-4CC3-B1A2-A42D7B29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F3C36-2C02-4886-A4AE-52325260C8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