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82748"/>
        <c:axId val="141970"/>
      </c:barChart>
      <c:catAx>
        <c:axId val="85382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70"/>
        <c:crosses val="autoZero"/>
        <c:auto val="1"/>
        <c:lblAlgn val="ctr"/>
        <c:lblOffset val="100"/>
        <c:noMultiLvlLbl val="0"/>
      </c:catAx>
      <c:valAx>
        <c:axId val="141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2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AFE-5FDD-452B-93EE-704243FF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6C5-D5C0-4048-A4E3-37706739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0B5-993A-442C-9A9D-C6AF245D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436-85B6-4EB3-B8C9-85A81FF8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C7B-DC73-43FC-8359-6C6DC5EA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3A6-0F44-486F-AAB0-AA0603C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599-9D6F-44B2-A4C3-B8B1995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ED2-4AE5-43FA-8534-A4CC6E3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A7-32CC-4194-8711-2A2F6651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DB7-E06E-4B04-8F32-879DA14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AA0-DB1A-45E4-8C7E-B0AAC480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FE3-5B45-4AC4-9D10-E2B3FBA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AA32F-A6E5-4518-B629-C0EAC56BC6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