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07652"/>
        <c:axId val="75310005"/>
      </c:barChart>
      <c:catAx>
        <c:axId val="59607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10005"/>
        <c:crosses val="autoZero"/>
        <c:auto val="1"/>
        <c:lblAlgn val="ctr"/>
        <c:lblOffset val="100"/>
        <c:noMultiLvlLbl val="0"/>
      </c:catAx>
      <c:valAx>
        <c:axId val="75310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07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BE4-39DC-476E-B104-56DB8736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B59-8AB3-4D83-8B67-78A4FB62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F3B-106E-4CEB-B8FD-1AB0BB38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1A3-46EF-4F53-A574-20C80547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DD5-C3EC-473A-9D63-201906A7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C55-766F-4877-9F20-93167BBE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751-7902-4A7E-9AD9-1305D4B6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BC3-7739-43F4-9EB8-07CC304A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784-D2F6-4BBB-B222-7C672089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407-A62D-49A3-9399-8CE86A88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FD1-B39B-4387-B45A-2B105619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4F6-1930-485D-A02A-75D463D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ADC4A-F431-442D-B6D7-7BE2B5EB3D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