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7726772"/>
        <c:axId val="31199457"/>
      </c:barChart>
      <c:catAx>
        <c:axId val="1772677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1199457"/>
        <c:crosses val="autoZero"/>
        <c:auto val="1"/>
        <c:lblAlgn val="ctr"/>
        <c:lblOffset val="100"/>
        <c:noMultiLvlLbl val="0"/>
      </c:catAx>
      <c:valAx>
        <c:axId val="3119945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772677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63CBE-9D52-44F2-8797-197F19B1D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99BFD-F244-48D6-A03D-1B0F4C2D2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782AD-3F0E-44D9-9CAB-C8B817269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D826E-64AB-43E3-A18B-1028C2750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06E67-C17B-4B6F-ACC9-C9A0849A0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6FA7D-101E-4D80-B89A-78FAFEF84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ACCF9-A56B-4066-9EE9-AAD4AF344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CC1EF-FE80-44CD-9699-D78EAECD6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F9926-DE35-497B-A7B2-C7E2BD6A7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AA273-9986-4D2E-BC7D-0F10C6801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ED1A3-3D47-4675-B170-E0F5D5AE6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A945F-2A04-4990-B327-C00178DB1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4668F3-7350-4DB0-ABBF-FAC67C2E69D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