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58828"/>
        <c:axId val="48951085"/>
      </c:barChart>
      <c:catAx>
        <c:axId val="51458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51085"/>
        <c:crosses val="autoZero"/>
        <c:auto val="1"/>
        <c:lblAlgn val="ctr"/>
        <c:lblOffset val="100"/>
        <c:noMultiLvlLbl val="0"/>
      </c:catAx>
      <c:valAx>
        <c:axId val="48951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58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F97-2105-44CB-A9C9-FA968118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8C8-8AFB-4E91-949C-C284D55D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51F-481F-4CF0-A7D6-DF974779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F66-30CB-4E2E-A25D-899F0571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70D-6961-4427-8181-28C54F1B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58C-06C3-4CFE-8F36-427CDC70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15C-7E5A-43E9-BE81-7B19047B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109-FFD9-4B7B-805C-E97BA135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E0A-5298-4609-9B02-3A7A819F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834-9C63-4EC8-83AD-F01E237F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517-3F70-4444-A544-A60A2618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252-7887-452F-A26F-B177E483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46D6C-40A0-47EE-B585-FCBD62DFB5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