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39574"/>
        <c:axId val="35903247"/>
      </c:barChart>
      <c:catAx>
        <c:axId val="57339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03247"/>
        <c:crosses val="autoZero"/>
        <c:auto val="1"/>
        <c:lblAlgn val="ctr"/>
        <c:lblOffset val="100"/>
        <c:noMultiLvlLbl val="0"/>
      </c:catAx>
      <c:valAx>
        <c:axId val="35903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39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E642-7C11-4866-A14A-8B915FFE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328-8D3F-4BBB-92DE-FBEF1425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EB7B-0D67-4ABF-9FAE-61EAF91C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0C3-7916-473E-A006-9305A90D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F48-986E-4BDC-ADF2-7BD39DB9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4DB-B0B5-4651-B816-BB0DB6A4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EB2-B611-4809-A947-6941DA95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E406-4BED-40E5-A73D-AA84F47C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1F2-3306-403A-9F0A-C1DDFD53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2C2-8954-4475-991B-9819FCC3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67A-739C-41BA-AC05-B13A7D07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C56-66DD-4EBC-A5AE-AFED4982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F0EA8-A78A-49E9-9045-18F7AED268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