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0001"/>
        <c:axId val="40493995"/>
      </c:barChart>
      <c:catAx>
        <c:axId val="6300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93995"/>
        <c:crosses val="autoZero"/>
        <c:auto val="1"/>
        <c:lblAlgn val="ctr"/>
        <c:lblOffset val="100"/>
        <c:noMultiLvlLbl val="0"/>
      </c:catAx>
      <c:valAx>
        <c:axId val="40493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0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C43-B410-46D7-AD47-2A7318A4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182-361C-47B3-8DDA-B6DDC5C7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798-D7AB-49F5-898A-18862C34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264-A19F-4C3B-AC78-93628890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F17-E417-4716-908F-2406A2ED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6DE-4B19-4B30-B01B-E665328D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883-29D1-4D47-851B-1CCDAB24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835-1E8F-4DCD-B873-0E1DD5D3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AE5-1B69-4F33-BD75-F274FDE4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FD6-75BF-4B44-BA10-7D35DEF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862-6157-4073-AEF3-450E1F8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2DF-42D8-46C9-B7D9-81136AF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AABAA-E86B-4206-9478-C171F7EA44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