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912889"/>
        <c:axId val="78568895"/>
      </c:barChart>
      <c:catAx>
        <c:axId val="391288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568895"/>
        <c:crosses val="autoZero"/>
        <c:auto val="1"/>
        <c:lblAlgn val="ctr"/>
        <c:lblOffset val="100"/>
        <c:noMultiLvlLbl val="0"/>
      </c:catAx>
      <c:valAx>
        <c:axId val="7856889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1288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3DFEA-B216-4FD9-812F-6B8C55078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DA1D5-4385-4512-B109-15AA1F36A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9CD15-B5A6-4846-A111-EF626558C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D77F0-CB2C-498B-913B-CF0677920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A63AA-EAC2-4183-B219-FACFD71A6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C3ABE-7D00-46B3-8F6A-365AF2F10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5473E-F663-4154-ACC9-1A12EB7CF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DF80D-5CF7-4E83-8CE7-E4FEA2F04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AA2E6-ADD0-4E7C-B888-A7CD819F6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31457-0236-4D6A-B07B-7D70C70BE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EDFA6-143E-41A5-8723-E3A3509A9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906E6-E844-4F8D-B940-4FA4F4D0A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AB8BF4-5C6B-4002-964E-2AA08F97899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