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7568"/>
        <c:axId val="94711047"/>
      </c:barChart>
      <c:catAx>
        <c:axId val="6607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11047"/>
        <c:crosses val="autoZero"/>
        <c:auto val="1"/>
        <c:lblAlgn val="ctr"/>
        <c:lblOffset val="100"/>
        <c:noMultiLvlLbl val="0"/>
      </c:catAx>
      <c:valAx>
        <c:axId val="94711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5D1-DF68-4BFA-86E7-32FB3A79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5C9-2CBD-4AE3-A976-3D40DCFD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141-065B-42D9-BCE4-1850FC1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DA3-D200-4F41-971B-C5B8E393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5A2-C2AC-45B7-BE41-4B7C0AC7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F33-F24B-486B-BAFA-568F072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D10-E936-4976-9563-AC80AC9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01F-18C2-4474-B33B-97D8497A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679-AAEB-47E5-9A2A-EAF532DE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752-0030-42A0-8347-A6B049D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645-6C31-4C1F-99DC-C8E25BB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204-A76B-438E-9CEE-772B6D0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2AE34-6502-40A8-AAA1-F99015C62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