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64472"/>
        <c:axId val="20724966"/>
      </c:barChart>
      <c:catAx>
        <c:axId val="65964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24966"/>
        <c:crosses val="autoZero"/>
        <c:auto val="1"/>
        <c:lblAlgn val="ctr"/>
        <c:lblOffset val="100"/>
        <c:noMultiLvlLbl val="0"/>
      </c:catAx>
      <c:valAx>
        <c:axId val="20724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4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221-F1B6-48A9-9C73-5B2984B5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49D-E3D5-42F5-A5A5-0D56A80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419-35B9-4CB8-A158-9FA91419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A11-D517-4954-B265-048564C9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D97-0589-4E61-BD9A-29D474C3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110-93FB-4534-9814-DCA39D6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CF9-67C5-46BC-903D-0ECDE74A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C8C-8D1F-46F6-A595-C6A2FBD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62F-A23E-4ABD-8B67-87682F9A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E36-ADA0-4C81-B826-033DF33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30D-5EB1-4A0E-A07A-25B44AD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F1D-13BF-478C-987A-85AACE5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DD2A4-40EC-427E-A507-49AE3A315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