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00419"/>
        <c:axId val="56426005"/>
      </c:barChart>
      <c:catAx>
        <c:axId val="36700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26005"/>
        <c:crosses val="autoZero"/>
        <c:auto val="1"/>
        <c:lblAlgn val="ctr"/>
        <c:lblOffset val="100"/>
        <c:noMultiLvlLbl val="0"/>
      </c:catAx>
      <c:valAx>
        <c:axId val="56426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00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6B2-CBAE-4B49-9583-FCB332B3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90C-7C98-4DB2-BB21-26C0C41E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E7E-111F-4775-8D0E-99F4111B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0EC-B87C-4076-AAEE-74CA636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06B-564F-4066-817D-7E1E158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B68-7E93-48CE-809D-A5A20822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1BD-03EC-4BB9-9DE4-2640BC2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FE9-3CC3-4D6D-8AD2-488D40D2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3D3-F0BE-4687-8740-D3057E2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591-8C6E-4841-B47E-990E4A7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E5C-6C70-4A6A-9F4D-96DC2C2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2B1-9675-4744-8133-DA8B9B0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5193F-C60A-44C1-AEEB-E64443FBB0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