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96394"/>
        <c:axId val="98588370"/>
      </c:barChart>
      <c:catAx>
        <c:axId val="21096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88370"/>
        <c:crosses val="autoZero"/>
        <c:auto val="1"/>
        <c:lblAlgn val="ctr"/>
        <c:lblOffset val="100"/>
        <c:noMultiLvlLbl val="0"/>
      </c:catAx>
      <c:valAx>
        <c:axId val="98588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6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986-4B8C-4970-9B0A-FF4500A1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9B7-FE69-4BF3-8152-E4B9EAB4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5DE-2A19-4780-BAFB-C7484DF4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0B7-9E43-4856-8B6E-76AF2324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5AC-42B1-43C4-88F8-EDC1AF40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158-9356-4469-A61B-362B3D6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BC1-D0BF-4717-80B1-6B4B3C48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E7C-ECF3-4BBA-BF38-2B40282B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142-A5F4-4C89-85E9-7AC0ED0F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627-1233-4A4C-9E82-0C5FBF6E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F6C-56B1-48D2-A527-9529FA2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D97-CE70-4EBC-A0A0-0928959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16944-8790-45C0-A9D7-8D5E8A1996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