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64787"/>
        <c:axId val="39798708"/>
      </c:barChart>
      <c:catAx>
        <c:axId val="63564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98708"/>
        <c:crosses val="autoZero"/>
        <c:auto val="1"/>
        <c:lblAlgn val="ctr"/>
        <c:lblOffset val="100"/>
        <c:noMultiLvlLbl val="0"/>
      </c:catAx>
      <c:valAx>
        <c:axId val="39798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64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70BD-C874-46CC-8DCB-53C326AA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EF2-F75A-4D65-9792-70ED273C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5BF-BCDF-4A71-A326-4D3F9E7A6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30E-CD27-411C-BB09-098DA55D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18E8-8D43-46E4-B0A3-2038E4EE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02C-8317-45FC-B934-A9DB8BC0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99B-4899-47EE-B1F0-57A9F13B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BE2-2826-4270-AE0E-9431C60E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B82-D249-4FA2-BDFF-60302658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482-1B73-4EFF-A0F9-85D0BEB6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3E4-994B-4CB4-83D8-31651751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548-B012-4C03-8392-A02309A5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867C5-DC86-40D6-BB43-EF8DF31752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