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37942"/>
        <c:axId val="83324479"/>
      </c:barChart>
      <c:catAx>
        <c:axId val="20137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24479"/>
        <c:crosses val="autoZero"/>
        <c:auto val="1"/>
        <c:lblAlgn val="ctr"/>
        <c:lblOffset val="100"/>
        <c:noMultiLvlLbl val="0"/>
      </c:catAx>
      <c:valAx>
        <c:axId val="83324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37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FF1-783E-4560-AFFF-21331B5A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95D-5F69-4CB9-9F1A-14ED7629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6F8-41C6-41AB-B0B0-34C0701E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264-54ED-4DAB-9A56-565C1C6D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ADB-3170-4B55-ADC3-707BCCBD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838-4628-4766-951A-41D38CD6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45E-CB79-471A-A5DB-FD4667EF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DF5-4909-46B4-B77C-7B6FBDFB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D74-7BC8-4C6F-81E0-CF4724F0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339-8F2B-4445-9E7D-EFB56907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E80-50FA-4C5A-8199-73289151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D4E-FB79-470B-904D-A0AE91F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4A0FE-00C1-40B7-9B4F-1F200793B5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