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892408"/>
        <c:axId val="67649813"/>
      </c:barChart>
      <c:catAx>
        <c:axId val="578924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49813"/>
        <c:crosses val="autoZero"/>
        <c:auto val="1"/>
        <c:lblAlgn val="ctr"/>
        <c:lblOffset val="100"/>
        <c:noMultiLvlLbl val="0"/>
      </c:catAx>
      <c:valAx>
        <c:axId val="676498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924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BF4F-C245-4A79-8DBF-BB1C871D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1005-EB50-4199-AD2E-45D0B72D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1564-017E-4D2F-AC92-B5748268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E0DE-0E0A-47F0-999C-2E046F83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B73C-5F3E-4719-A599-CA78A542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D754-615D-4389-B77A-E9794726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1D53-8AE2-4003-A26E-EE188056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EA56-3080-4ADF-BBE7-13985225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EA43-33B5-48EC-9EC5-95120E85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3E61-2D26-4198-9DC9-4D2B7C90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3F71-135F-4984-996D-7BB7DB85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89F5-A02D-4585-865A-1962CA28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CFE5E-E951-4E78-B427-9A4512BBB3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