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24307"/>
        <c:axId val="95570666"/>
      </c:barChart>
      <c:catAx>
        <c:axId val="58224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70666"/>
        <c:crosses val="autoZero"/>
        <c:auto val="1"/>
        <c:lblAlgn val="ctr"/>
        <c:lblOffset val="100"/>
        <c:noMultiLvlLbl val="0"/>
      </c:catAx>
      <c:valAx>
        <c:axId val="95570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24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867-71AE-4EB8-9C41-2CA63DC8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E2B-765D-460C-A121-5733CDC7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5F5-F50C-4F1F-9239-94F5FF0C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3DA-FAC7-4D0A-9870-F7D5EAB0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15E-CD2B-488E-89E9-EED3F2F6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08A-E611-4E52-916E-EC260784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216-5920-41B2-B129-60A5446A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26C-2279-4046-AAC2-CE1D0B2B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0B1-BEAC-4F12-8519-19A49676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0FB-3E54-475E-B4F8-F675A958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5FAD-7ABB-4734-9A9C-5ADA9EF6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CC4-D204-4809-816A-ED5CEC32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57CF9-D9AB-4FE0-96C4-5160F8BB94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