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53899"/>
        <c:axId val="18415306"/>
      </c:barChart>
      <c:catAx>
        <c:axId val="68653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15306"/>
        <c:crosses val="autoZero"/>
        <c:auto val="1"/>
        <c:lblAlgn val="ctr"/>
        <c:lblOffset val="100"/>
        <c:noMultiLvlLbl val="0"/>
      </c:catAx>
      <c:valAx>
        <c:axId val="18415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53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688-7F88-4950-8271-AC50CDB0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66A-CB48-4613-989B-6C422E87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A88-807F-41E3-9C8C-1F3B249A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36A-860A-4A6A-942B-BC7498AA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A32-CFE6-4268-8E74-37950204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23D-4299-4452-8946-D06163E9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2D9-C6D3-497A-92A8-C0A50B90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712-3476-429F-8409-7EA03AC2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7F9-6975-427B-9794-D1FC3E7F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EFE-47A4-4449-8500-5897890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15F-D88B-4B46-8BDC-63AA7186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EE7-0185-42C1-854A-D88EA19D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93178-3302-44F1-BA65-471E676096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