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57960"/>
        <c:axId val="192820"/>
      </c:barChart>
      <c:catAx>
        <c:axId val="86257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820"/>
        <c:crosses val="autoZero"/>
        <c:auto val="1"/>
        <c:lblAlgn val="ctr"/>
        <c:lblOffset val="100"/>
        <c:noMultiLvlLbl val="0"/>
      </c:catAx>
      <c:valAx>
        <c:axId val="192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57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F1A-8FF1-4275-8CD5-AB0F3172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FF4-ED68-475C-A7AD-7370133A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EC3-5C16-4156-8754-86458ACC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9E90-351E-4993-9B03-2F7439AF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17B-3959-4BEF-9AD5-F8C942C5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8C9-79C5-425F-A87E-34DA39AE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970-FBE4-444B-B3F1-78B680BE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2E7-8DEB-483A-A826-A6E0129C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8DBE-162A-4BE7-A2CA-0FE4C47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681-23C6-4A9B-B79B-438444B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C28-D570-49C1-9BF1-F00E14B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816-1041-4FD1-AF1F-BA57BE69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0DDAA-A414-4F6D-91FA-B28D6D0D7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