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61958"/>
        <c:axId val="35173337"/>
      </c:barChart>
      <c:catAx>
        <c:axId val="97661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73337"/>
        <c:crosses val="autoZero"/>
        <c:auto val="1"/>
        <c:lblAlgn val="ctr"/>
        <c:lblOffset val="100"/>
        <c:noMultiLvlLbl val="0"/>
      </c:catAx>
      <c:valAx>
        <c:axId val="35173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61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53B-6F10-4F55-996A-4C2846C9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3DD-B4A4-4E11-BBD1-6A7ECCD8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5AC-9F14-47AA-9215-0468B5AB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24C-8EA8-41D6-9609-2FA46BEE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27E-6328-4714-99EB-FE4BCB51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A0B-C5AF-46DD-937C-60F9578D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26C-2050-4128-A860-F3B416B2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273-9A12-4E0B-BA62-DF88A033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885-0169-4643-976C-93A72F9A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6DF-436D-4EBA-846E-03F7CA4F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ED4-E070-4CDE-8F10-53EB5704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12F-D9FD-4ECF-A920-8F42A4BB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0FBFA-FF4E-480B-8B83-E533B44A80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