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73230"/>
        <c:axId val="61958645"/>
      </c:barChart>
      <c:catAx>
        <c:axId val="82273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58645"/>
        <c:crosses val="autoZero"/>
        <c:auto val="1"/>
        <c:lblAlgn val="ctr"/>
        <c:lblOffset val="100"/>
        <c:noMultiLvlLbl val="0"/>
      </c:catAx>
      <c:valAx>
        <c:axId val="61958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73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FF8-2727-43A2-9BC8-E2DA1493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8B4-5E93-4D6C-88D6-68239B63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CF5-3E0A-45BD-9170-48261CE2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863-753F-4EEF-8652-99509D4A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A3B-8C44-4743-A2E6-1930A1A6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AFA-D9FB-4E64-8C9F-1E7A3C02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727-5C35-42BC-992A-AD97A874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C0E-7328-46AD-9098-BC66FDFE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1C08-1D6A-4676-A82C-15FCB72F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234-B12A-4FEE-A47D-8E0EB09B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C4A-E61C-44D3-8699-F1D50BD8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86C-F444-41EB-BD84-BCAF66CE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56448-675E-4DB8-818A-BEE9997F1E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