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603001"/>
        <c:axId val="31565472"/>
      </c:barChart>
      <c:catAx>
        <c:axId val="686030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65472"/>
        <c:crosses val="autoZero"/>
        <c:auto val="1"/>
        <c:lblAlgn val="ctr"/>
        <c:lblOffset val="100"/>
        <c:noMultiLvlLbl val="0"/>
      </c:catAx>
      <c:valAx>
        <c:axId val="315654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030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9486-3CC3-4D0F-A596-8DCF05E4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2376-AB5A-444F-A9A8-134DF312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F9F0-7E88-45E0-B868-1F493732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D1BE-D9CE-403B-B0F4-F7B09B93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3478-4963-45FF-8BCF-24C4A9E3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E21C-55B7-4C57-A50F-4349318E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EF3E-0571-4D2D-8349-62A5EA44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1211-CCB4-4ADC-A870-3470328B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0C4D-07F6-4FDD-976A-BC58313C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FFF6-9EE9-4399-B690-E61D7D19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AF64-EB66-4FCD-9203-2896EAEB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40F8-CDC2-4006-A2B0-B8F808A7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E1A39-1E6C-4C0C-A3B8-01EDE0D9D0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