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62345"/>
        <c:axId val="69062858"/>
      </c:barChart>
      <c:catAx>
        <c:axId val="84262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62858"/>
        <c:crosses val="autoZero"/>
        <c:auto val="1"/>
        <c:lblAlgn val="ctr"/>
        <c:lblOffset val="100"/>
        <c:noMultiLvlLbl val="0"/>
      </c:catAx>
      <c:valAx>
        <c:axId val="69062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2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3C0-8D95-4676-AB2C-347E9971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B96-B563-4626-9133-63E1E10C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106-224F-4BF4-AB6C-17A38484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1D0-959E-4052-B976-DC2A2268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B39-1895-4E62-BFD9-F3CA217B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F10-B61C-47DB-B5C3-C8F552D7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EC8-2526-4E6E-A158-A1DB48D3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209-079C-4AF6-9A67-999E0D9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78E-ADA7-4686-A9AB-C7609980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20E-7B9D-48DC-9E0D-FADD62E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B1C-6295-4BBA-88D1-A80BE720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990-D197-461C-8FA2-8716213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FE544-7ACC-4634-9745-8D7BC78140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