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19465"/>
        <c:axId val="42964842"/>
      </c:barChart>
      <c:catAx>
        <c:axId val="22419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64842"/>
        <c:crosses val="autoZero"/>
        <c:auto val="1"/>
        <c:lblAlgn val="ctr"/>
        <c:lblOffset val="100"/>
        <c:noMultiLvlLbl val="0"/>
      </c:catAx>
      <c:valAx>
        <c:axId val="42964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19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F7E-B54D-4355-80DE-D5631851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BD2-3AEF-4609-A422-561AAF52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55B-3DCB-40E7-AC00-9F77C245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A7B-F47C-43F0-8D96-8BD4B34D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6D0-0DB2-4A5A-9B85-A929E301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C9D-84A5-4C98-9351-AAAABA87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1FE-FDE7-4A1C-955A-902ADC86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8E1-217A-4172-A042-73281230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2E6-BF3C-4C3C-9D2E-81D02240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DF8-F264-4D48-B185-2EA17EA0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EDA-EC2C-428E-80D5-AAAEAEF5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D9A-2026-4A8D-A040-DD782093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78980-2488-47F1-BCC0-6BD2FADC4D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