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558396"/>
        <c:axId val="21469187"/>
      </c:barChart>
      <c:catAx>
        <c:axId val="315583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69187"/>
        <c:crosses val="autoZero"/>
        <c:auto val="1"/>
        <c:lblAlgn val="ctr"/>
        <c:lblOffset val="100"/>
        <c:noMultiLvlLbl val="0"/>
      </c:catAx>
      <c:valAx>
        <c:axId val="214691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5583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039D-C9E4-40CB-BAB7-DF3CD7C8D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0C9E-9D3A-4C29-8D49-E93CFDB1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0C52-CDCF-40AA-991A-12FDE6523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B8B4-603A-4C7F-9439-94CF4164E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1359-24DD-4DF1-84AE-D93F6709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9176-4C98-4702-AB04-18CC7F7E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CBA0-41EC-4023-94D7-D3027FF2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D962-3259-4E8A-959A-23C6CEA6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F008-0706-456D-AFC2-BA41FF64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1EE5-202E-4773-AA19-0747CB0D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E414-C499-4C96-ABFA-95DB733B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A763-62E6-43D2-A893-6389812A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60B422-2062-42C0-9A56-B6AB66FBF4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