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791279"/>
        <c:axId val="66238856"/>
      </c:barChart>
      <c:catAx>
        <c:axId val="467912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238856"/>
        <c:crosses val="autoZero"/>
        <c:auto val="1"/>
        <c:lblAlgn val="ctr"/>
        <c:lblOffset val="100"/>
        <c:noMultiLvlLbl val="0"/>
      </c:catAx>
      <c:valAx>
        <c:axId val="662388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7912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AC32-0EA8-4E74-98CC-46C2954D8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D9BC-1F42-4221-88DC-3316B9229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1225-B433-40F8-A920-1196DA202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C399-DB60-444A-931A-D683C039F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D1D5-1D69-4F4B-AED3-4CC1E66A3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96CC-1504-43D5-AE3C-AE2014845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A4DC-9255-46D4-B8F1-088679546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BA12-25E4-4E1E-9DA6-530DD67B3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72FE-7D56-4685-8860-90946E7C8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F609-73AE-43F3-98C5-FE3B81CA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8308-504C-4CC8-B420-A61951A2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145D-D20E-46C6-AA17-2E970B3F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D9E142-72F4-4167-AF2D-466B8087B63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