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21457"/>
        <c:axId val="94274297"/>
      </c:barChart>
      <c:catAx>
        <c:axId val="903214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74297"/>
        <c:crosses val="autoZero"/>
        <c:auto val="1"/>
        <c:lblAlgn val="ctr"/>
        <c:lblOffset val="100"/>
        <c:noMultiLvlLbl val="0"/>
      </c:catAx>
      <c:valAx>
        <c:axId val="94274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214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25B-DAE5-4CF0-962E-97D82F2A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FD7-2BA5-473F-953C-AF78F82A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6C2-9E63-4F8B-9E4A-DFB94A03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CE6-4B63-454F-8E6A-7B7A32F1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BDB-C7F3-42DA-9134-E8D6FA09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CDA-CCED-47D5-BF7D-E9CB6D1B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241-294D-408E-AC10-3AB7666F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22B-9704-4B08-AB41-60E47FF4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58C-0DFE-40AB-8120-32DDB45A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457-B680-405E-84B4-EA6E8759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AA8-8829-465E-BC0A-B30F6F5C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F84-D8D6-485C-9320-32F21381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CA234-9DD0-4BFF-B12D-0D3DFF14F6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