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437104"/>
        <c:axId val="90257987"/>
      </c:barChart>
      <c:catAx>
        <c:axId val="114371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257987"/>
        <c:crosses val="autoZero"/>
        <c:auto val="1"/>
        <c:lblAlgn val="ctr"/>
        <c:lblOffset val="100"/>
        <c:noMultiLvlLbl val="0"/>
      </c:catAx>
      <c:valAx>
        <c:axId val="902579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4371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8FA2-4E1D-4CC2-979A-7EC86EAD9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1548-682D-4386-9DA6-09079FC09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C15A-76E0-4CF6-A92F-F58164CFA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9CD6-6272-44AD-9D88-FFD62AFFC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5293-24F6-43FF-991E-F0E10FF7C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FC93-C399-4C6B-97B1-E3FA7C385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92BE-F3B2-4E1C-9250-7467566B0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F68F-99BD-4D0A-842B-D85CFF218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6F6A-06DD-4C87-8E6F-FF81CCDC9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5E1A-77FD-47D4-8AA9-DBBFF22C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1E08-0563-41BD-95A2-4CB4F3F0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81EA-B5B9-4D33-ADF4-90F20DBB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3E8609-97FB-4097-B798-BD2B17CCF9A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