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75236"/>
        <c:axId val="28626292"/>
      </c:barChart>
      <c:catAx>
        <c:axId val="75775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26292"/>
        <c:crosses val="autoZero"/>
        <c:auto val="1"/>
        <c:lblAlgn val="ctr"/>
        <c:lblOffset val="100"/>
        <c:noMultiLvlLbl val="0"/>
      </c:catAx>
      <c:valAx>
        <c:axId val="28626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75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DDC-8CB9-4929-B101-620B224B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F75-356D-486C-A182-4753658B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C8D-512C-43BF-B7BB-4954924C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8C0-4C90-4D30-941F-8AEAF7EC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A65-1A37-4606-8B91-CE9207CE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B0C-2C2C-47E5-AD60-4508CF65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829-F883-4CA4-8D65-B80378F9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33B-EA01-4A8F-9FF7-CAF7AD0C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9C7-191E-4E92-BBA8-27CE3940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4AE-5D87-400D-AD2C-817A998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185-08CD-4C82-9DC3-F7128393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10F-DC57-4EDD-A8E0-C1F5B53D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C8BDF-E763-4E25-82A7-44FE9ABCC6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