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82661"/>
        <c:axId val="55836965"/>
      </c:barChart>
      <c:catAx>
        <c:axId val="82482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6965"/>
        <c:crosses val="autoZero"/>
        <c:auto val="1"/>
        <c:lblAlgn val="ctr"/>
        <c:lblOffset val="100"/>
        <c:noMultiLvlLbl val="0"/>
      </c:catAx>
      <c:valAx>
        <c:axId val="55836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2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E9A-596F-4DFB-868B-F441819D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8C0-2EE1-4F5C-BBCA-E59252D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95E-56B1-44C2-888B-5712E32C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E1A-CA98-42F0-B76B-096B4E3B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B7-BF15-4AF7-879A-AF37C654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C95-4D12-461D-8AB9-85578F5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9BC-3062-4403-B161-4F632F24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B27-D4B8-4A86-8E3D-AC3C11B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B3C-6229-432E-A467-CB10A2A8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ADD-4B71-4432-9C4B-1327C69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B3C-3ECD-4BBC-875C-BA62D35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139-71C7-4AF3-99B2-B616803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87811-C1AB-4AAE-BC58-B5F9AFB14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