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611189"/>
        <c:axId val="2974016"/>
      </c:barChart>
      <c:catAx>
        <c:axId val="28611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4016"/>
        <c:crosses val="autoZero"/>
        <c:auto val="1"/>
        <c:lblAlgn val="ctr"/>
        <c:lblOffset val="100"/>
        <c:noMultiLvlLbl val="0"/>
      </c:catAx>
      <c:valAx>
        <c:axId val="2974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11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A4D-7F44-4E5D-959C-24A6AAE3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6AC-C997-47D5-9AA1-DCFEF055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F077-1B6E-4CC9-B0D0-3586CE8D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56B2-1ED4-4DC7-A00B-3CAC7337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867-3841-4B05-8A30-A02A46AF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54E5-C1FA-4472-AB73-F0501790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A80-7059-4B3D-9E24-C2471263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2AC-0DFF-4438-B3A4-810D4ED4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DCC7-0068-4DAD-B2A1-88BD203D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779-DE94-4024-994D-D51A1E27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DCC3-589F-45E1-8D3F-06269A1F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A4A6-DC0F-44C6-B5C2-AA84A106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2255D-80D3-4DD5-B414-3307EE93A6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