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3658085"/>
        <c:axId val="72506760"/>
      </c:barChart>
      <c:catAx>
        <c:axId val="3365808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506760"/>
        <c:crosses val="autoZero"/>
        <c:auto val="1"/>
        <c:lblAlgn val="ctr"/>
        <c:lblOffset val="100"/>
        <c:noMultiLvlLbl val="0"/>
      </c:catAx>
      <c:valAx>
        <c:axId val="7250676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365808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53B62-A639-4353-8ACF-3FE1EE463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83D98-7637-4773-B2CB-DA83F7584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28A26-7026-43FF-8FB8-4140816CC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8C390-F796-4066-8E01-A52835E8A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406C7-90FA-4139-B3E8-909E52D1C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AA63D-A58D-4E63-BE13-63F528ACE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24C66-ED40-456C-8F5E-2BD8299C5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8C6FC-B7B2-4E51-B23B-308F8805D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08CFD-6D4C-4634-8074-1A7A7D7F4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29366-99F4-470E-A5AD-95B4FF201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9E158-2D7D-4733-B20A-446254300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83374-3163-4C04-8633-1EB76EAAD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78CE53-7ACE-48D5-9BC7-A307C24433D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