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93415"/>
        <c:axId val="51101188"/>
      </c:barChart>
      <c:catAx>
        <c:axId val="64093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01188"/>
        <c:crosses val="autoZero"/>
        <c:auto val="1"/>
        <c:lblAlgn val="ctr"/>
        <c:lblOffset val="100"/>
        <c:noMultiLvlLbl val="0"/>
      </c:catAx>
      <c:valAx>
        <c:axId val="51101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93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B4A-0E21-4E08-9F0E-7B34C14C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B05-2242-4500-A353-E4BED8B9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0C1-6D82-42B0-8F1D-A8885CB2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335-7F4E-4C0A-B3D6-52FDE119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B7C-54E5-41D7-95E1-7BEA3A06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234-EA66-4EB1-AE0F-9D290825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573-21B6-4787-AFD0-A09F4CE0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052-7385-44D2-8CC8-5065C0C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409-35C6-4037-8AF4-E405A538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DAC-A3CB-4C5D-B8A5-E4A559D7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D33-910F-4F68-B063-ACBF314A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D4D-6F74-4871-BF3C-B1513C9F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A1396-4715-4DC2-B68E-B2C736D67F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