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341880"/>
        <c:axId val="71967027"/>
      </c:barChart>
      <c:catAx>
        <c:axId val="993418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967027"/>
        <c:crosses val="autoZero"/>
        <c:auto val="1"/>
        <c:lblAlgn val="ctr"/>
        <c:lblOffset val="100"/>
        <c:noMultiLvlLbl val="0"/>
      </c:catAx>
      <c:valAx>
        <c:axId val="719670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3418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DCB2-DFB1-49AF-9FE6-595B2D417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6F85-96D0-4AC3-9C30-00D781F3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E9BE-6B1E-414B-A2CE-7F5861F48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6C04-101C-4B1B-81A3-72D2199C7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685B-9F4C-4C3C-BAD5-1C10B4F2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48D5-14D7-47CD-A5BE-7F6363B5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332B-74B7-45D8-B209-C48E25DA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01EF-0C12-483C-A902-67B14F78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7CD1-78E3-4935-8A01-F221F1BF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809F-B7A6-4B85-A413-5B652E5C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2119-3CF6-4CE8-95F3-5F2AB7A0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6CE9-8CC4-47FA-9EDF-873C01AA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9EED9-42A5-47FB-B274-67A8316479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