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542370"/>
        <c:axId val="81158780"/>
      </c:barChart>
      <c:catAx>
        <c:axId val="185423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158780"/>
        <c:crosses val="autoZero"/>
        <c:auto val="1"/>
        <c:lblAlgn val="ctr"/>
        <c:lblOffset val="100"/>
        <c:noMultiLvlLbl val="0"/>
      </c:catAx>
      <c:valAx>
        <c:axId val="811587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423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A159-0A2C-4723-89B4-B626CFDF2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9957-79EF-47D9-B2F4-962F8E15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4230-804A-4158-B85B-74C94AB27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E6F6-FADA-4FA9-9129-8289A12B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9898-3D1E-46FA-9AF3-3073443C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648B-91E4-4152-866B-8F7DC2D9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CA47-733B-4AC3-AFE2-6F406283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7BF1-05E5-48D2-BA65-02C9E593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AB3F-4233-4B02-B438-02FA6D5C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DFC4-4FEC-4E51-A2CE-017547EB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960F-902B-49E6-A916-9778078E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33EF-7D08-4B2B-B8C6-047DBFC5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95D3E-7F3E-4BA0-8CEE-11E798BAB5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