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24220"/>
        <c:axId val="54630327"/>
      </c:barChart>
      <c:catAx>
        <c:axId val="84724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30327"/>
        <c:crosses val="autoZero"/>
        <c:auto val="1"/>
        <c:lblAlgn val="ctr"/>
        <c:lblOffset val="100"/>
        <c:noMultiLvlLbl val="0"/>
      </c:catAx>
      <c:valAx>
        <c:axId val="54630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24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D9E-0F32-401C-B86A-1C28351C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BFB-F594-4684-B849-9798497A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DF5-E71F-49DD-B34B-746AA88C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435-EDF3-46B8-BEC0-1C306A8E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577-441B-4505-865F-08985EC3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DEDE-0023-4EB1-BDF5-02FDB0B9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9DC-6758-48B8-82F3-92A91E28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0BE-E9C2-48F4-80B6-4DFCF79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73F-4F77-4F5F-9024-EE816200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D7EF-B941-45AF-A680-9F354873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26B-F670-4E32-83D8-76694EDF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0C9-527C-46C7-AA38-88FD4835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7EA60-0032-4E99-8CEB-C850FA10AD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