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2240"/>
        <c:axId val="72831068"/>
      </c:barChart>
      <c:catAx>
        <c:axId val="7882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1068"/>
        <c:crosses val="autoZero"/>
        <c:auto val="1"/>
        <c:lblAlgn val="ctr"/>
        <c:lblOffset val="100"/>
        <c:noMultiLvlLbl val="0"/>
      </c:catAx>
      <c:valAx>
        <c:axId val="7283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2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298-1070-41E5-B86D-DE83EC33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1A0-FD4E-41F4-90FC-0E4B92E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7B4-6760-4554-BB95-A44950FD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9DB-59A4-4EDB-B81D-EC69CFD6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3A9-EA6A-49DE-AABE-805180EC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873-7177-4773-B6E3-136C3872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555-009A-4B59-8386-1E45F8E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31E-9FC1-4214-A987-C8E1B912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A91-975F-4B47-9919-76FC9B2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3D2-A2A0-40AC-B2F6-E47308A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4CB-82A4-49E6-8017-902DEB7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FCF-0CD1-4B92-8757-819A2FD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59D4F-7666-4AE1-86CD-628DF247BF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