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47277"/>
        <c:axId val="24507691"/>
      </c:barChart>
      <c:catAx>
        <c:axId val="18747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07691"/>
        <c:crosses val="autoZero"/>
        <c:auto val="1"/>
        <c:lblAlgn val="ctr"/>
        <c:lblOffset val="100"/>
        <c:noMultiLvlLbl val="0"/>
      </c:catAx>
      <c:valAx>
        <c:axId val="24507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47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A57-95BE-4FCC-A037-32097C61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789-BBDE-43C3-A395-80D11BF5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94F-C882-4AE2-957B-713CA995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29B-090B-4B5A-BCE2-2596BC9A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19D-33D6-4E21-A344-659DDDA8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595-75C8-42C6-A264-D438D48C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769-D40F-4C40-934E-FCE70D89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754-1B08-4C99-8067-13A5D28D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C4E-A1E2-481F-BEB1-E876C781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B15-16C2-4056-BD63-42B9387D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7BB-5F90-4C98-8629-59781487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036-3330-4379-86D3-2A27F73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FF797-B077-4A9B-9E72-7CBFC87230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