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987696"/>
        <c:axId val="64360087"/>
      </c:barChart>
      <c:catAx>
        <c:axId val="829876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360087"/>
        <c:crosses val="autoZero"/>
        <c:auto val="1"/>
        <c:lblAlgn val="ctr"/>
        <c:lblOffset val="100"/>
        <c:noMultiLvlLbl val="0"/>
      </c:catAx>
      <c:valAx>
        <c:axId val="643600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876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FF0A-0990-4AB7-9A37-45ED7C010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6842-1171-4D6A-8F69-F3530CCD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7351-77F4-4461-BA7D-80822E078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AB47-8EFF-42F7-B3B3-67321D806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1C72-6FD5-4D23-A8EF-64570D56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F032-1CA7-460C-A956-8A735FC4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7E82-BD86-4789-887E-C1F20FDE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95ED-214C-421B-AA91-A48C4D62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E6A4-D0FD-435A-8B72-8C350903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320E-E924-4D93-8D8D-22AB8743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1CBF-7C5C-430C-827A-7838262A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92C9-846F-40D4-8A45-8D0F0FBB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3198A-0F87-47A3-9CF9-42384EC944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