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4560640"/>
        <c:axId val="77546416"/>
      </c:barChart>
      <c:catAx>
        <c:axId val="5456064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546416"/>
        <c:crosses val="autoZero"/>
        <c:auto val="1"/>
        <c:lblAlgn val="ctr"/>
        <c:lblOffset val="100"/>
        <c:noMultiLvlLbl val="0"/>
      </c:catAx>
      <c:valAx>
        <c:axId val="7754641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56064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120C-4161-481E-B85B-00EEBD212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9116-7EB1-4A9D-B26B-2CD81CAD7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A66B-D457-4242-B140-F599F2040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E0E7-B33A-47D7-9087-79E3B02B5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F7D5-7D06-45F8-A3A0-498CCB2DE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A020-1B15-4C08-9C7F-3A9AB26F9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7A24-75C5-4AAD-86D5-D97EDC0F3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1092-C8E8-4359-A54D-50E464F0D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0634-D718-4469-B567-006F176C7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A2BE-ECDF-4BE2-84F8-FD2C1A11C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200B-1F50-494B-9F09-43F5E5E50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5368-0048-4F75-AD27-945D84CC4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F6E1F8-8EEF-4EA0-8FE0-FA9FEE4669A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