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49643"/>
        <c:axId val="25949352"/>
      </c:barChart>
      <c:catAx>
        <c:axId val="23849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9352"/>
        <c:crosses val="autoZero"/>
        <c:auto val="1"/>
        <c:lblAlgn val="ctr"/>
        <c:lblOffset val="100"/>
        <c:noMultiLvlLbl val="0"/>
      </c:catAx>
      <c:valAx>
        <c:axId val="25949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49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8FC-4112-4283-8311-A6CC207F3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BD6-67D0-48F3-BC0B-3FAEAB9D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AEF-F8E2-40D2-B52A-791E4FFB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BE8-ACBD-4B0A-BD0E-9AA945A5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FBB-0817-4E56-B1F2-B6280649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F89-5D61-463C-A790-FD97B902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D4C-D8C4-486A-BE77-CCBD516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1AF-3182-4BDD-829F-220B2CD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7FB-252F-45CD-A9FE-EC049B7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9BAB-C356-4051-B838-A10F6FA3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6C4-A594-4079-9ECE-1FDE0EB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2C3-0DE8-4A11-BAE3-5A2926F4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48ED-74D3-4657-9307-BA52B407EF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